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wmf" ContentType="image/x-wmf"/>
  <Override PartName="/ppt/media/image4.png" ContentType="image/png"/>
  <Override PartName="/ppt/media/image6.png" ContentType="image/png"/>
  <Override PartName="/ppt/media/image7.jpeg" ContentType="image/jpeg"/>
  <Override PartName="/ppt/media/image8.png" ContentType="image/png"/>
  <Override PartName="/ppt/media/image9.wmf" ContentType="image/x-wmf"/>
  <Override PartName="/ppt/media/image11.wmf" ContentType="image/x-wmf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54D1A-CD1E-4966-AD70-A089927FA973}" type="slidenum"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Dian numeron paikkamerkki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CC420-CAD1-400E-8663-80D4814DF040}" type="slidenum">
              <a:rPr b="0" lang="fi-FI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Dian numeron paikkamerkki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F7166-D672-4F4E-8F3F-7C24446BF700}" type="slidenum">
              <a:rPr b="0" lang="fi-FI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Dian numeron paikkamerkki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22503-25A2-4390-9B7A-AD298FF395D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Dian numeron paikkamerkki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C63E1-C12E-4812-ABFC-25FE17F58C81}" type="slidenum">
              <a:rPr b="0" lang="fi-FI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Dian numeron paikkamerkki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779FF-695B-4FE9-BDCB-D219ECC02938}" type="slidenum">
              <a:rPr b="0" lang="fi-FI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Dian numeron paikkamerkki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5C985-BDFA-4183-841E-CC313FE17997}" type="slidenum">
              <a:rPr b="0" lang="fi-FI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D2F48-C027-4B6A-968A-2CEFFF6A3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02920" y="274320"/>
            <a:ext cx="765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02920" y="1600200"/>
            <a:ext cx="7653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02920" y="3964320"/>
            <a:ext cx="7653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105FF-98E5-4328-8680-9CD564350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02920" y="274320"/>
            <a:ext cx="765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02920" y="1600200"/>
            <a:ext cx="373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24760" y="1600200"/>
            <a:ext cx="373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02920" y="3964320"/>
            <a:ext cx="373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24760" y="3964320"/>
            <a:ext cx="373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A6A16-A58E-4969-8DCF-80A01E531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02920" y="274320"/>
            <a:ext cx="765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02920" y="1600200"/>
            <a:ext cx="246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90600" y="1600200"/>
            <a:ext cx="246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78640" y="1600200"/>
            <a:ext cx="246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02920" y="3964320"/>
            <a:ext cx="246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990600" y="3964320"/>
            <a:ext cx="246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78640" y="3964320"/>
            <a:ext cx="246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BA222-46F6-4D53-9FE7-5D5DFD0DB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E786D-3A72-45A4-BB78-1F2C5B616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402920" y="274320"/>
            <a:ext cx="765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402920" y="1600200"/>
            <a:ext cx="765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D11D1-77E6-4358-B1A8-75434457D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02920" y="274320"/>
            <a:ext cx="765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02920" y="1600200"/>
            <a:ext cx="7653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93E63-63B5-4555-B680-94B0B8E87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02920" y="274320"/>
            <a:ext cx="765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402920" y="1600200"/>
            <a:ext cx="373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324760" y="1600200"/>
            <a:ext cx="373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A8897-079B-477D-A656-C30B092BE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02920" y="274320"/>
            <a:ext cx="765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8444D-B44C-48EA-929D-731B2D1F7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402920" y="274320"/>
            <a:ext cx="7653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31943-9897-4759-878C-E1FE55A85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02920" y="274320"/>
            <a:ext cx="765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02920" y="1600200"/>
            <a:ext cx="373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324760" y="1600200"/>
            <a:ext cx="373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402920" y="3964320"/>
            <a:ext cx="373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9EEB2-61F6-4282-8632-7C7E5B447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02920" y="274320"/>
            <a:ext cx="765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02920" y="1600200"/>
            <a:ext cx="765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F1324-AA30-4B71-9CF2-6CF7E08CE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02920" y="274320"/>
            <a:ext cx="765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402920" y="1600200"/>
            <a:ext cx="373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24760" y="1600200"/>
            <a:ext cx="373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24760" y="3964320"/>
            <a:ext cx="373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530E2-9B66-4A6C-8EBC-27823A1D1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02920" y="274320"/>
            <a:ext cx="765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402920" y="1600200"/>
            <a:ext cx="373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24760" y="1600200"/>
            <a:ext cx="373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402920" y="3964320"/>
            <a:ext cx="7653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1CB94-C3A1-4B63-B844-ACA1A8675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02920" y="274320"/>
            <a:ext cx="765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402920" y="1600200"/>
            <a:ext cx="7653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402920" y="3964320"/>
            <a:ext cx="7653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3F0B8-BE3F-426A-A723-767D5C325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02920" y="274320"/>
            <a:ext cx="765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02920" y="1600200"/>
            <a:ext cx="373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24760" y="1600200"/>
            <a:ext cx="373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402920" y="3964320"/>
            <a:ext cx="373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324760" y="3964320"/>
            <a:ext cx="373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0DD13-7E40-4638-84A8-4821FFA2B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02920" y="274320"/>
            <a:ext cx="765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402920" y="1600200"/>
            <a:ext cx="246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990600" y="1600200"/>
            <a:ext cx="246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578640" y="1600200"/>
            <a:ext cx="246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402920" y="3964320"/>
            <a:ext cx="246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990600" y="3964320"/>
            <a:ext cx="246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578640" y="3964320"/>
            <a:ext cx="246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B545F-29E0-416F-A2D2-E6BCCC668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02920" y="274320"/>
            <a:ext cx="765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02920" y="1600200"/>
            <a:ext cx="7653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1F7E3-CBDF-45E3-8461-79A348A6D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02920" y="274320"/>
            <a:ext cx="765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02920" y="1600200"/>
            <a:ext cx="373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24760" y="1600200"/>
            <a:ext cx="373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9E7E5-2A25-443B-BA19-1D7B57853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02920" y="274320"/>
            <a:ext cx="765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37679-0F8D-40F1-8B2A-E56E6B804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02920" y="274320"/>
            <a:ext cx="7653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E26C3-DA45-49AD-8FAB-281DD051A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02920" y="274320"/>
            <a:ext cx="765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02920" y="1600200"/>
            <a:ext cx="373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24760" y="1600200"/>
            <a:ext cx="373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02920" y="3964320"/>
            <a:ext cx="373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66853-93D8-49F5-911F-0EAF24F6C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02920" y="274320"/>
            <a:ext cx="765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02920" y="1600200"/>
            <a:ext cx="373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24760" y="1600200"/>
            <a:ext cx="373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24760" y="3964320"/>
            <a:ext cx="373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0819A-71A7-466E-BC3C-8604F25AD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02920" y="274320"/>
            <a:ext cx="765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02920" y="1600200"/>
            <a:ext cx="373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24760" y="1600200"/>
            <a:ext cx="373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02920" y="3964320"/>
            <a:ext cx="7653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CAD4D-C8EF-41AE-87BD-0E943714A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02920" y="274320"/>
            <a:ext cx="765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02920" y="1600200"/>
            <a:ext cx="7653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BA04D-89AA-4D45-9460-722D3F0B45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02920" y="274320"/>
            <a:ext cx="765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402920" y="1600200"/>
            <a:ext cx="7653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BBB35-94A4-4004-8A0B-B255001E19A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wmf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125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ffffff"/>
                </a:solidFill>
                <a:latin typeface="Arial"/>
              </a:rPr>
              <a:t>Massa m ja paino 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1763640" y="4149720"/>
            <a:ext cx="1474920" cy="162864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7308720" y="2421000"/>
            <a:ext cx="571680" cy="20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9" descr="C:\WINDOWS\Desktop\scales 7.gif"/>
          <p:cNvPicPr/>
          <p:nvPr/>
        </p:nvPicPr>
        <p:blipFill>
          <a:blip r:embed="rId2"/>
          <a:stretch/>
        </p:blipFill>
        <p:spPr>
          <a:xfrm>
            <a:off x="179280" y="3141720"/>
            <a:ext cx="2057400" cy="20001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8" descr="C:\WINDOWS\Desktop\scale 36.gif"/>
          <p:cNvPicPr/>
          <p:nvPr/>
        </p:nvPicPr>
        <p:blipFill>
          <a:blip r:embed="rId3"/>
          <a:stretch/>
        </p:blipFill>
        <p:spPr>
          <a:xfrm>
            <a:off x="7093080" y="3716280"/>
            <a:ext cx="1358640" cy="1428840"/>
          </a:xfrm>
          <a:prstGeom prst="rect">
            <a:avLst/>
          </a:prstGeom>
          <a:ln w="0">
            <a:noFill/>
          </a:ln>
        </p:spPr>
      </p:pic>
      <p:sp>
        <p:nvSpPr>
          <p:cNvPr id="94" name="Suorakulmio 3"/>
          <p:cNvSpPr/>
          <p:nvPr/>
        </p:nvSpPr>
        <p:spPr>
          <a:xfrm>
            <a:off x="530640" y="428760"/>
            <a:ext cx="85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  <a:ea typeface="Times New Roman"/>
              </a:rPr>
              <a:t>Massan saa mitattua punnitsemalla vaa’all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kstikehys 4"/>
          <p:cNvSpPr/>
          <p:nvPr/>
        </p:nvSpPr>
        <p:spPr>
          <a:xfrm>
            <a:off x="2326680" y="1285920"/>
            <a:ext cx="535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ffffff"/>
                </a:solidFill>
                <a:latin typeface="Arial"/>
              </a:rPr>
              <a:t>Perusyksikkö on kilogramm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Suorakulmio 13"/>
          <p:cNvSpPr/>
          <p:nvPr/>
        </p:nvSpPr>
        <p:spPr>
          <a:xfrm>
            <a:off x="2576160" y="2205000"/>
            <a:ext cx="423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ssa ei riipu sijainnista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780000" y="3573360"/>
            <a:ext cx="1628640" cy="21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96"/>
          <p:cNvSpPr/>
          <p:nvPr/>
        </p:nvSpPr>
        <p:spPr>
          <a:xfrm>
            <a:off x="304920" y="76320"/>
            <a:ext cx="8305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7cfb5"/>
                </a:solidFill>
                <a:latin typeface="Arial"/>
              </a:rPr>
              <a:t> </a:t>
            </a:r>
            <a:r>
              <a:rPr b="1" lang="en-US" sz="6000" spc="-1" strike="noStrike">
                <a:solidFill>
                  <a:srgbClr val="e7cfb5"/>
                </a:solidFill>
                <a:latin typeface="Arial"/>
              </a:rPr>
              <a:t>Massa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xt Box 98"/>
          <p:cNvSpPr/>
          <p:nvPr/>
        </p:nvSpPr>
        <p:spPr>
          <a:xfrm>
            <a:off x="380880" y="9907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ssa on aineen perusominaisu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2"/>
          <p:cNvSpPr/>
          <p:nvPr/>
        </p:nvSpPr>
        <p:spPr>
          <a:xfrm>
            <a:off x="4038480" y="327672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03"/>
          <p:cNvSpPr/>
          <p:nvPr/>
        </p:nvSpPr>
        <p:spPr>
          <a:xfrm>
            <a:off x="1981080" y="3276720"/>
            <a:ext cx="5334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kstikehys 12"/>
          <p:cNvSpPr/>
          <p:nvPr/>
        </p:nvSpPr>
        <p:spPr>
          <a:xfrm>
            <a:off x="467280" y="4214880"/>
            <a:ext cx="7981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ff"/>
                </a:solidFill>
                <a:latin typeface="Arial"/>
              </a:rPr>
              <a:t>Ainetta on yhtä paljon, oletpa Maassa tai Kuussa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i-FI" sz="2800" spc="-1" strike="noStrike">
                <a:solidFill>
                  <a:srgbClr val="ffffff"/>
                </a:solidFill>
                <a:latin typeface="Arial"/>
              </a:rPr>
              <a:t>tai vaikkapa Jupiterissa</a:t>
            </a:r>
            <a:r>
              <a:rPr b="0" lang="fi-FI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kstikehys 13"/>
          <p:cNvSpPr/>
          <p:nvPr/>
        </p:nvSpPr>
        <p:spPr>
          <a:xfrm>
            <a:off x="635400" y="2708280"/>
            <a:ext cx="48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ffffff"/>
                </a:solidFill>
                <a:latin typeface="Arial"/>
              </a:rPr>
              <a:t>Massan tunnus on m ja yksikkö k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AutoShape 7"/>
          <p:cNvSpPr/>
          <p:nvPr/>
        </p:nvSpPr>
        <p:spPr>
          <a:xfrm>
            <a:off x="3643200" y="2928960"/>
            <a:ext cx="1295640" cy="395280"/>
          </a:xfrm>
          <a:prstGeom prst="leftArrow">
            <a:avLst>
              <a:gd name="adj1" fmla="val 50000"/>
              <a:gd name="adj2" fmla="val 97241"/>
            </a:avLst>
          </a:prstGeom>
          <a:solidFill>
            <a:srgbClr val="e2320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Suorakulmio 5"/>
          <p:cNvSpPr/>
          <p:nvPr/>
        </p:nvSpPr>
        <p:spPr>
          <a:xfrm>
            <a:off x="3857760" y="714240"/>
            <a:ext cx="4572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7cfb5"/>
                </a:solidFill>
                <a:latin typeface="Arial"/>
              </a:rPr>
              <a:t>Paino Maassa on voima, jolla Maa vetää kappaletta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Picture 6" descr=""/>
          <p:cNvPicPr/>
          <p:nvPr/>
        </p:nvPicPr>
        <p:blipFill>
          <a:blip r:embed="rId2"/>
          <a:stretch/>
        </p:blipFill>
        <p:spPr>
          <a:xfrm>
            <a:off x="1571760" y="2286000"/>
            <a:ext cx="1823760" cy="16956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5076720" y="2565360"/>
            <a:ext cx="1830600" cy="114948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1121760" y="4581360"/>
            <a:ext cx="537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Arial"/>
              </a:rPr>
              <a:t>Paino Kuussa on voima , jolla Kuu vetää kappalett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Rectangle 3" descr=""/>
          <p:cNvPicPr/>
          <p:nvPr/>
        </p:nvPicPr>
        <p:blipFill>
          <a:blip r:embed="rId2"/>
          <a:stretch/>
        </p:blipFill>
        <p:spPr>
          <a:xfrm>
            <a:off x="971640" y="1413000"/>
            <a:ext cx="5924520" cy="41497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4067280" y="836640"/>
            <a:ext cx="1065240" cy="8668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4"/>
          <a:stretch/>
        </p:blipFill>
        <p:spPr>
          <a:xfrm>
            <a:off x="1258920" y="1268280"/>
            <a:ext cx="1065240" cy="8668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4716360" y="1628640"/>
            <a:ext cx="287280" cy="1150920"/>
          </a:xfrm>
          <a:prstGeom prst="downArrow">
            <a:avLst>
              <a:gd name="adj1" fmla="val 50000"/>
              <a:gd name="adj2" fmla="val 100157"/>
            </a:avLst>
          </a:prstGeom>
          <a:solidFill>
            <a:srgbClr val="ffaa3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979640" y="1989000"/>
            <a:ext cx="144360" cy="216000"/>
          </a:xfrm>
          <a:prstGeom prst="downArrow">
            <a:avLst>
              <a:gd name="adj1" fmla="val 50000"/>
              <a:gd name="adj2" fmla="val 37406"/>
            </a:avLst>
          </a:prstGeom>
          <a:solidFill>
            <a:srgbClr val="ffaa3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-15480" y="5608800"/>
            <a:ext cx="384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Arial"/>
              </a:rPr>
              <a:t>Massa on sama Kuussa ja Maassa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741200" y="2152800"/>
            <a:ext cx="110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Arial"/>
              </a:rPr>
              <a:t>G = 60 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244520" y="2224080"/>
            <a:ext cx="103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Arial"/>
              </a:rPr>
              <a:t>G = 10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67400" y="5897520"/>
            <a:ext cx="867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Arial"/>
              </a:rPr>
              <a:t>Paino Maassa on kuusinkertainen, koska Maan vetovoima on kuusi kertaa suuremp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Arial"/>
              </a:rPr>
              <a:t>kuin Kuun vetovoim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Suorakulmio 1"/>
          <p:cNvSpPr/>
          <p:nvPr/>
        </p:nvSpPr>
        <p:spPr>
          <a:xfrm>
            <a:off x="642960" y="1357200"/>
            <a:ext cx="850104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23202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an vetovoiman vaikutus kappaleese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Suorakulmio 2"/>
          <p:cNvSpPr/>
          <p:nvPr/>
        </p:nvSpPr>
        <p:spPr>
          <a:xfrm>
            <a:off x="964080" y="2714760"/>
            <a:ext cx="614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aino= massa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∙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putoamiskiihtyvy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Suorakulmio 4"/>
          <p:cNvSpPr/>
          <p:nvPr/>
        </p:nvSpPr>
        <p:spPr>
          <a:xfrm>
            <a:off x="1085400" y="3286080"/>
            <a:ext cx="308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ffffff"/>
                </a:solidFill>
                <a:latin typeface="Arial"/>
              </a:rPr>
              <a:t>G = m (kg)∙ 10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kstikehys 5"/>
          <p:cNvSpPr/>
          <p:nvPr/>
        </p:nvSpPr>
        <p:spPr>
          <a:xfrm>
            <a:off x="3726720" y="1000080"/>
            <a:ext cx="2014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000" spc="-1" strike="noStrike">
                <a:solidFill>
                  <a:srgbClr val="ffffff"/>
                </a:solidFill>
                <a:latin typeface="Arial"/>
              </a:rPr>
              <a:t>Paino 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kstikehys 6"/>
          <p:cNvSpPr/>
          <p:nvPr/>
        </p:nvSpPr>
        <p:spPr>
          <a:xfrm>
            <a:off x="1302840" y="4572000"/>
            <a:ext cx="278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ffffff"/>
                </a:solidFill>
                <a:latin typeface="Arial"/>
              </a:rPr>
              <a:t>Laske oma painosi</a:t>
            </a:r>
            <a:r>
              <a:rPr b="0" lang="fi-FI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5292720" y="3500280"/>
            <a:ext cx="571680" cy="20196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262800" y="5176800"/>
            <a:ext cx="30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Arial"/>
              </a:rPr>
              <a:t>Paino mitataan jousivaa’all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kstikehys 2"/>
          <p:cNvSpPr/>
          <p:nvPr/>
        </p:nvSpPr>
        <p:spPr>
          <a:xfrm>
            <a:off x="2237040" y="5000760"/>
            <a:ext cx="365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ffffff"/>
                </a:solidFill>
                <a:latin typeface="Arial"/>
              </a:rPr>
              <a:t>Planeetat ovat erikokois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kstikehys 3"/>
          <p:cNvSpPr/>
          <p:nvPr/>
        </p:nvSpPr>
        <p:spPr>
          <a:xfrm>
            <a:off x="2277360" y="5516640"/>
            <a:ext cx="464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ffffff"/>
                </a:solidFill>
                <a:latin typeface="Arial"/>
              </a:rPr>
              <a:t>Siksi niillä on erilainen vetovoim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755640" y="476280"/>
            <a:ext cx="6769080" cy="417816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6300720" y="4507920"/>
            <a:ext cx="20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Linense BY-NC-SA /</a:t>
            </a:r>
            <a:r>
              <a:rPr b="1" lang="fi-FI" sz="900" spc="-1" strike="noStrike">
                <a:solidFill>
                  <a:srgbClr val="ffffff"/>
                </a:solidFill>
                <a:latin typeface="Arial"/>
              </a:rPr>
              <a:t>Nyi Lynn Seck</a:t>
            </a:r>
            <a:r>
              <a:rPr b="0" lang="fi-FI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8T06:56:41Z</dcterms:created>
  <dc:creator>Ritva Tamminen</dc:creator>
  <dc:description/>
  <dc:language>en-US</dc:language>
  <cp:lastModifiedBy>tammiri</cp:lastModifiedBy>
  <dcterms:modified xsi:type="dcterms:W3CDTF">2010-10-24T14:53:43Z</dcterms:modified>
  <cp:revision>21</cp:revision>
  <dc:subject/>
  <dc:title>Massa ja paino</dc:title>
</cp:coreProperties>
</file>